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081-FA11-4AD3-A398-01617EF5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29E-09F6-4CB9-872B-F4440FF8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DB8-41FC-4D45-B0DB-CB7E465A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729-CD0E-4321-90EA-073E1843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E1A1-2A4C-4DA8-B7A7-B770BCA0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C7F-E649-46DE-BEF0-4E68911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935A-57CC-48A6-A4E2-1738862B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48E6-B94E-48DF-990E-6E774F6D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5291-9F26-4783-A91A-34C67A96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21D0-9D95-4863-8155-75F64D2F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E2C2-2D48-49EF-A0FF-CE532D3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860-A41E-4B2E-8F88-4AE25328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5C15-A5B9-43B4-94DF-D1C2503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B078-98F3-4F99-93EF-2C78D181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2F78-7EC5-44DF-A88B-8E9CF7F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B9EE-1B71-4254-945A-FDA20165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5C7B-7AAA-4434-9A9B-8EE0EB98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98A-6443-4AC2-AB3E-8CB2B5F0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127-DD89-45BE-8161-DBD1FD49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323-EB0B-4DAA-80FC-3C5AE972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794-1A8C-4340-B7EC-8A57C58B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A89-3A8B-4612-933F-280E4F7F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10C-A806-48A9-BAAE-7588A190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3B5-083A-46AB-8423-7F33D10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5DF-AE8A-4394-A621-A8A086803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A9BB-7747-47A3-9E7F-D0F1AD59E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Remnant Shall Return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8, Lesson 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rs of Si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47-15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31A9-A9C0-4A1A-874F-3FF3F166936E}" type="slidenum">
              <a:t>1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Zealo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ably formed after the Romans took control of Ju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litical group with little impact on the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d they were to establish God’s predicted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God would come to their 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y would enjoy a glorious political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on Zelotes (the Zealot) was one of Jesus’ twelve apos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6B6-1F5A-4E11-BEFB-2E0459E04B71}" type="slidenum">
              <a:t>10</a:t>
            </a:fld>
          </a:p>
        </p:txBody>
      </p:sp>
    </p:spTree>
  </p:cSld>
  <p:transition>
    <p:zoom dir="in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Sanhedri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ewish high cou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ebrew spelling of a Greek word that means “a senate” (a governing 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have been formed during the Greek-Syrian occupation of Ju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ed generally of seventy judges (el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probably taken from Num. 11:16-24 and Exod. 24:1, 9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222-792B-4D5F-BEEC-84FB528FCA0E}" type="slidenum">
              <a:t>11</a:t>
            </a:fld>
          </a:p>
        </p:txBody>
      </p:sp>
    </p:spTree>
  </p:cSld>
  <p:transition>
    <p:zoom dir="in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Sanhedri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anhedrin, along with the High Priest, made up the local government of the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days of the New Testament, it was the Jews’ highest author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authority was controlled and limited by the Rom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study more about the Romans in the next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78D-619B-49D6-8A13-CE66051BE31C}" type="slidenum">
              <a:t>12</a:t>
            </a:fld>
          </a:p>
        </p:txBody>
      </p:sp>
    </p:spTree>
  </p:cSld>
  <p:transition>
    <p:zoom dir="in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ere We Left Off...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ccabees had gained independence for Judea from a weakened Sy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on (143-134 B.C.), last son of Mattathias Hasmoneas, ha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laimed the te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rid the land of the Syrians and Zeus ido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Hyrcanus (134-105 B.C.), Simon’s son, was the “High Pries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Jewish traditions and sects have beg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44F-2FC5-42FC-AB2F-E940E1AFAF59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piritual Condition Of The Jew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ptivity taught them a lesson - idolatry was wro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they neglected th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ra led the peop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ure the purity of their wo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arate themselves from their foreign w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arate themselves from the people of the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hemiah and Malachi stressed obed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171-BD11-42B9-A393-6450F350BE8B}" type="slidenum">
              <a:t>3</a:t>
            </a:fld>
          </a:p>
        </p:txBody>
      </p:sp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Hasidim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idim, or a group of “pious on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eply spiritually mi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sued keeping the law carefu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object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ear God’s curse if they did not ob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btain His blessings though obed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develop the idea of a kingdom of pri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rituals and ceremon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duce the law to a set of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cribes became an important part of this eff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848-9E14-4637-BBC7-F84FC57412B1}" type="slidenum">
              <a:t>4</a:t>
            </a:fld>
          </a:p>
        </p:txBody>
      </p:sp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Hasidim Cre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“Halakhah” - a collection of traditions and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“Haggadah” - comprised of parables, folklore, history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mud” - documented the oral traditions (still exists tod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ed the Talmud more binding than the scrip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s were scribes, rabbis, Jewish schol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33A-1E14-4DA7-B609-DE8A8F25626D}" type="slidenum">
              <a:t>5</a:t>
            </a:fld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Pharise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s “separated on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mall party formed from the Hasid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little information on when or how this group be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ery influential party among the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the opposition party to the Maccab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d strongly to the Jews’ tra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re closely united with the scrib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027-6EC1-411B-8C1A-B225EFB2B77F}" type="slidenum">
              <a:t>6</a:t>
            </a:fld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Pharise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strict in the laws with “outward appearanc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cts 26:5, Paul called the Pharisees “the straitest sect of our religion” (the Jewish relig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see a lot of them in our study of the New Testa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0BD-2AF5-41B9-9298-9F7EA7A2B0D5}" type="slidenum">
              <a:t>7</a:t>
            </a:fld>
          </a:p>
        </p:txBody>
      </p:sp>
    </p:spTree>
  </p:cSld>
  <p:transition>
    <p:zoom dir="in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Sadduce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litical party of the aristocratic pri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ttle popularity among the common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ted Judea to compromise with the Gr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comed the Greek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ieved in God and the law, but not the traditions of the scribes and the Pharis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not believe in the resurrection, nor in angels, or the hereafter (the spirit world) (Acts 23: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A85-5874-4B84-95BE-87D456C1D5F6}" type="slidenum">
              <a:t>8</a:t>
            </a:fld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Essen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sed the Pharisees because they were too lenient and not strict enough in their opposition to the Gree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no impact on the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re withdrawn from 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a very austere, communal type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y have copied, collected and hidden the Dead Sea Scrolls which were found in 19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B46-425B-4854-96C2-C5CFC2F55142}" type="slidenum">
              <a:t>9</a:t>
            </a:fld>
          </a:p>
        </p:txBody>
      </p:sp>
    </p:spTree>
  </p:cSld>
  <p:transition>
    <p:zoom dir="in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4:24:39Z</dcterms:created>
  <dc:creator>Don Vines</dc:creator>
  <dc:description/>
  <dc:language>en-US</dc:language>
  <cp:lastModifiedBy>Frank D Vines</cp:lastModifiedBy>
  <dcterms:modified xsi:type="dcterms:W3CDTF">2006-06-29T18:57:19Z</dcterms:modified>
  <cp:revision>20</cp:revision>
  <dc:subject/>
  <dc:title>“A Remnant Shall Return”</dc:title>
</cp:coreProperties>
</file>